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F0090-5AE1-4CF1-AA1F-696D11A6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8A7C9-E5C0-4EB1-98EB-ACFED272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982E3-F443-455A-926E-D3F753B5B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2B4EF-F725-46C4-99C0-D6E77FEBC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B9988-3BDB-449D-BB9A-9291BD25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95934-E21C-4704-90B3-A89184335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89505-417E-4719-9BD4-2E786371D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D50DA-C789-4DB1-B3A8-2A9C25C98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AC2FF-BAAC-4E9C-9BB7-BCE29EB76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4CE2F-29FB-4EF3-9949-E10F5BF0B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547F6-B5D2-4290-958D-BBD37C3B3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0B0C-1777-448E-92F4-0F5951DF8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28234-7025-4326-AD92-A5E44C3B8A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50920" y="90792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She/ He / It has go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No tiene……      She/ He/ It hasn’t got..</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42" name=""/>
          <p:cNvSpPr/>
          <p:nvPr/>
        </p:nvSpPr>
        <p:spPr>
          <a:xfrm>
            <a:off x="755640" y="2997360"/>
            <a:ext cx="3634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una cabez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dos mano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la cabez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ene las ma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200"/>
                                  </p:iterate>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anim calcmode="lin" valueType="num">
                                      <p:cBhvr additive="repl">
                                        <p:cTn id="8" dur="2000" fill="hold"/>
                                        <p:tgtEl>
                                          <p:spTgt spid="42"/>
                                        </p:tgtEl>
                                        <p:attrNameLst>
                                          <p:attrName>ppt_x</p:attrName>
                                        </p:attrNameLst>
                                      </p:cBhvr>
                                      <p:tavLst>
                                        <p:tav tm="0">
                                          <p:val>
                                            <p:strVal val="#ppt_x-.1"/>
                                          </p:val>
                                        </p:tav>
                                        <p:tav tm="100000">
                                          <p:val>
                                            <p:strVal val="#ppt_x"/>
                                          </p:val>
                                        </p:tav>
                                      </p:tavLst>
                                    </p:anim>
                                    <p:anim calcmode="lin" valueType="num">
                                      <p:cBhvr additive="repl">
                                        <p:cTn id="9" dur="2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rcRect l="23611" t="20438" r="23770" b="59155"/>
          <a:stretch/>
        </p:blipFill>
        <p:spPr>
          <a:xfrm>
            <a:off x="3708360" y="1557360"/>
            <a:ext cx="208764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71640" y="476280"/>
            <a:ext cx="3967200" cy="52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268360" y="260280"/>
            <a:ext cx="4248360" cy="5400720"/>
          </a:xfrm>
          <a:prstGeom prst="rect">
            <a:avLst/>
          </a:prstGeom>
          <a:ln w="0">
            <a:noFill/>
          </a:ln>
        </p:spPr>
      </p:pic>
      <p:sp>
        <p:nvSpPr>
          <p:cNvPr id="62" name=""/>
          <p:cNvSpPr/>
          <p:nvPr/>
        </p:nvSpPr>
        <p:spPr>
          <a:xfrm>
            <a:off x="250920" y="5877000"/>
            <a:ext cx="88930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40000" y="333360"/>
            <a:ext cx="396072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2700360" y="333360"/>
            <a:ext cx="358920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843280" y="333360"/>
            <a:ext cx="3657600" cy="46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371680" y="765000"/>
            <a:ext cx="4222800" cy="511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556000" y="476280"/>
            <a:ext cx="371448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700360" y="260280"/>
            <a:ext cx="3500280" cy="475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627280" y="476280"/>
            <a:ext cx="3795840" cy="461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268360" y="260280"/>
            <a:ext cx="4248360" cy="5400720"/>
          </a:xfrm>
          <a:prstGeom prst="rect">
            <a:avLst/>
          </a:prstGeom>
          <a:ln w="0">
            <a:noFill/>
          </a:ln>
        </p:spPr>
      </p:pic>
      <p:sp>
        <p:nvSpPr>
          <p:cNvPr id="44"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23611" t="20438" r="23770" b="59155"/>
          <a:stretch/>
        </p:blipFill>
        <p:spPr>
          <a:xfrm>
            <a:off x="3635280" y="476280"/>
            <a:ext cx="2087640" cy="1079640"/>
          </a:xfrm>
          <a:prstGeom prst="rect">
            <a:avLst/>
          </a:prstGeom>
          <a:ln w="0">
            <a:noFill/>
          </a:ln>
        </p:spPr>
      </p:pic>
      <p:sp>
        <p:nvSpPr>
          <p:cNvPr id="71" name=""/>
          <p:cNvSpPr/>
          <p:nvPr/>
        </p:nvSpPr>
        <p:spPr>
          <a:xfrm>
            <a:off x="826920" y="1773360"/>
            <a:ext cx="68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1835280" y="2852640"/>
            <a:ext cx="4562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ene el pelo lar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 pelo es azul, amarillo y ro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eva un sombrero rojo. Hay una flor azul en el sombre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 mujer esta llorando entonces esta agarrando un pañ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ene las manos verd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 cara es amarillo y ver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s dientes son gri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s una mujer de varios colores. ¡No es muy guap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2771640" y="476280"/>
            <a:ext cx="3967200" cy="5289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 gusta mucho la pintura. En mi opinión es muy interesante. Puedo ver a una mujer que llora. No sé por qué pero creo que es tris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eva un sombrero rojo y esta agarrando un pañu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es una pintura realista. La mujer parace un poco raro. Los colores no son realistas tampoco pero me gusta que es de varios colores. Mi color preferido es el rojo. La parte que más me gusta es su pe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340000" y="333360"/>
            <a:ext cx="3960720" cy="4680000"/>
          </a:xfrm>
          <a:prstGeom prst="rect">
            <a:avLst/>
          </a:prstGeom>
          <a:ln w="0">
            <a:noFill/>
          </a:ln>
        </p:spPr>
      </p:pic>
      <p:sp>
        <p:nvSpPr>
          <p:cNvPr id="46"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2700360" y="333360"/>
            <a:ext cx="3589200" cy="4681440"/>
          </a:xfrm>
          <a:prstGeom prst="rect">
            <a:avLst/>
          </a:prstGeom>
          <a:ln w="0">
            <a:noFill/>
          </a:ln>
        </p:spPr>
      </p:pic>
      <p:sp>
        <p:nvSpPr>
          <p:cNvPr id="48"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843280" y="333360"/>
            <a:ext cx="3657600" cy="4608360"/>
          </a:xfrm>
          <a:prstGeom prst="rect">
            <a:avLst/>
          </a:prstGeom>
          <a:ln w="0">
            <a:noFill/>
          </a:ln>
        </p:spPr>
      </p:pic>
      <p:sp>
        <p:nvSpPr>
          <p:cNvPr id="50"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371680" y="765000"/>
            <a:ext cx="4222800" cy="5112000"/>
          </a:xfrm>
          <a:prstGeom prst="rect">
            <a:avLst/>
          </a:prstGeom>
          <a:ln w="0">
            <a:noFill/>
          </a:ln>
        </p:spPr>
      </p:pic>
      <p:sp>
        <p:nvSpPr>
          <p:cNvPr id="52"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56000" y="476280"/>
            <a:ext cx="3714480" cy="4680000"/>
          </a:xfrm>
          <a:prstGeom prst="rect">
            <a:avLst/>
          </a:prstGeom>
          <a:ln w="0">
            <a:noFill/>
          </a:ln>
        </p:spPr>
      </p:pic>
      <p:sp>
        <p:nvSpPr>
          <p:cNvPr id="54"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00360" y="260280"/>
            <a:ext cx="3500280" cy="4753080"/>
          </a:xfrm>
          <a:prstGeom prst="rect">
            <a:avLst/>
          </a:prstGeom>
          <a:ln w="0">
            <a:noFill/>
          </a:ln>
        </p:spPr>
      </p:pic>
      <p:sp>
        <p:nvSpPr>
          <p:cNvPr id="56"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627280" y="476280"/>
            <a:ext cx="3795840" cy="4618080"/>
          </a:xfrm>
          <a:prstGeom prst="rect">
            <a:avLst/>
          </a:prstGeom>
          <a:ln w="0">
            <a:noFill/>
          </a:ln>
        </p:spPr>
      </p:pic>
      <p:sp>
        <p:nvSpPr>
          <p:cNvPr id="58" name=""/>
          <p:cNvSpPr/>
          <p:nvPr/>
        </p:nvSpPr>
        <p:spPr>
          <a:xfrm>
            <a:off x="250920" y="5877000"/>
            <a:ext cx="88930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iene ………..    No tiene…………..</a:t>
            </a:r>
            <a:r>
              <a:rPr b="0" lang="en-GB" sz="3600" spc="-1" strike="noStrike">
                <a:solidFill>
                  <a:srgbClr val="000000"/>
                </a:solidFill>
                <a:latin typeface="Arial"/>
              </a:rPr>
              <a:t> </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6T14:03:03Z</dcterms:created>
  <dc:creator>Helen</dc:creator>
  <dc:description/>
  <dc:language>en-US</dc:language>
  <cp:lastModifiedBy>Katy Oliver</cp:lastModifiedBy>
  <dcterms:modified xsi:type="dcterms:W3CDTF">2012-02-29T22:07:44Z</dcterms:modified>
  <cp:revision>5</cp:revision>
  <dc:subject/>
  <dc:title>Slide 1</dc:title>
</cp:coreProperties>
</file>